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C5D8-CDB4-4181-A0C3-711F8E53573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ABF1-C8F7-4699-8CCC-07F49372CAA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EC2F-F9B6-49C1-9D8E-0B20EE67331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***********SOURCE: business analysts, business users***************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 you navigate the goal model, you see how higher-level business goals can be achieved by moving downwards. On the other hand, to see why a particular goal is needed, you just have to move upwards from that g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1570-471B-4192-8E33-02CBD73BAB7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1724-30F9-4C0C-BE76-EB55050C254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984E-662E-47EA-A8FD-41432621B64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eaf-level goals – the actual work to be done in BPs – map into WS invo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igher-level goals are used to group lower-level ones and with the help of control flow annotations are used to generate the corresponding BPEL control flow constr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F021-B915-4685-A103-E75F0EAE4E8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eaf-level goals – the actual work to be done in BPs – map into WS invo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igher-level goals are used to group lower-level ones and with the help of control flow annotations are used to generate the corresponding BPEL control flow constr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5906-5839-496C-9881-AE0D99E0CD6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1597-31BC-4E76-8704-76D8B054FF2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CD20-5E60-48E0-B7AF-8F7AEC444CE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4C14-ECD4-4727-88E5-CF82615ACFF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5300-647D-4021-B894-DE005130887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18FA-F564-4BD2-85E8-10BDC581063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FF89-C9A8-444B-90BF-B61BB9ACDF5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C5DB-25A7-450C-972C-90F9552CF89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66B9-86F0-4C1A-BDD7-830CFC655FC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55F1-B1DD-4614-8790-54B0A2FB288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B30A-A6C6-4733-9164-837C3853E9A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oblems: it’s like if we just started writing code right away, without requirements or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83DF-A373-46E8-A14C-176F18EA647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2E6A-FE41-4AC7-8876-02974A47D70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: this is an expanded version of the Supply Customer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*******SOURCE: business analyst, requirements engineer, developers**********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: conditions are mostly informa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8A2C-4ECC-4C50-A5BD-C4FBA361A7E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24CB-3FAC-44A9-8F29-7B8857F9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DDA-E892-4CC2-99C2-E31B5F0E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C4739-5A0C-4997-A25C-ABB77099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25D8F-C294-4FFB-B654-A04A92E7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D68DD-080C-4B27-A8A0-1ABCDC00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F8297-F0CD-4B89-9C07-020D1A8F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7182B-CC19-4A5C-809B-2A90A006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3CC19-4902-439D-BE3A-CBF2B897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06BA8-B847-4642-BF8C-9851E218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FBB06-3E51-4116-829B-8B46DB2A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DDC24-BF4B-4CE0-9D22-3A9B32B2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6B4CF-EADA-4672-85C1-8364F7CF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015-1379-460A-BA04-C7BC7C5A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0EF09-1A9D-461D-A243-B70FED0E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64F87-CFE4-4AB3-A96D-8B99FD44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93682-8AC1-43C2-8227-8609ACB6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67B33-AE93-47D6-8278-D65B9A5D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F1198-D4FA-4AEA-BA73-1E2D315E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75661-A0F2-4F31-AB1E-7C8ED5C1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8E773-7B01-40DC-B8C7-FEB5BA2F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ECAF2-8991-4A22-A970-71C4E009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133C4-38B7-4215-AC2E-70453969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C95F6-7168-4F1F-8F26-52FCBE1A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1F8-0495-4A67-AF0B-9C9C0EFF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09005-4791-46C5-BFE1-84AFE3DF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27B43-2597-45D5-9D93-A73CA094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78B17-3DE3-443C-97FE-0253EA06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8407F-0D8B-4F00-8C83-F8C5C3C5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79EE9-FDCC-4FA3-8159-07697297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E8DEF-F2BB-4DD8-9592-F7F4DF98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A8471-5CC3-4938-AB8B-C80ED354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F43C6-410C-4CF1-8A01-B08CBB95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46599-AC27-4BE7-ACAE-D6E31C58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0E6DD-C02A-4341-8493-8904D8D9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B75D-4EB3-45C5-A311-75FAEE38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BEEE8-2C38-4C09-BA23-A51FB2C2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67CCB-7512-42D6-ADCB-176E0975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82BD4-2338-42FC-A04B-8CFD3F76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D52DC-A652-4E16-A274-1735431C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F5971-47ED-4ACB-9A0E-E31E55DB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F2F08-3EF2-4EF9-9B25-748B3A61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9E2D1-4D55-446C-B9B5-6B62FEF5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6DA1A-1225-401D-B87B-D44C08E3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77364-EEBE-4F63-95D4-C40E76FB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341A8-F9EC-401D-B139-DF6FE6EA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E134-9614-4F93-9988-A781DFF6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40FAD-D6DD-4342-A7C2-7D11C588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68FFE-9C99-469A-A46F-731BB81D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E688B-B77C-488C-B11D-1782B73A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7EF03-A7C2-4CB0-AAEB-7AE0BB9A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94862-0578-4D47-87EE-B5A71008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3F6A0-2F3A-4A25-8E45-076A0B69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2C0A9-0DD8-4B68-A84D-5ABD861F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0247E-D12B-4962-8F82-1597C247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09111-E4ED-4325-960F-091981BB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8D49B-6C6C-4DE7-8C52-134F678B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2E49-7AE4-45E2-A1C1-18CD62C9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5C126-B899-4981-B279-7E73852B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F8075-CB67-45F5-BDEE-BA0C2E8A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9E773-C557-48A3-BCF6-AC9D958F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ECA05-B9E0-4772-925A-921D56A8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D12459-02AF-4A26-8EB1-260CC23D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DD8B35-86F8-4C37-ACC4-AAC4EE1F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0D074B-3FA5-4CB7-975F-6D65EAD9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B30E-C870-4A9A-A060-DC99DB8C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D76A-2E9C-4EBB-8C3A-FA9DD4A5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CE8F-7CCF-402F-A2C3-116BDFB9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B23E-2260-45FA-92AB-24F6CC82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DC6-5AE0-4335-9C42-691C86A6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F927-C9BA-451B-90D8-70D1BD3F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FE70-9C79-4247-BD1C-C67742FB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63E6-9CBA-4918-94C1-A22F8066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2656-1495-4DB1-A638-411FA8B7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68C8-8BDC-4798-846B-E6C22890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F4887-EA42-4542-9F76-4AC08ABD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C82CE-48F3-4191-A1D6-3BA29C34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333EC-6819-40F6-A09E-1F63FB15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F6A48-9F24-4CD6-889A-C9B86917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A7846-506E-4273-898D-23033C34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E33-5F3B-4BB9-BB15-85E32CD3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0B75-47D5-4335-9C74-AC995E6B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0F02C-AC0B-4B26-B92F-F2E66203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75F82-CAA9-43DF-8901-4B7EC6DD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E63D8-9E2A-4DDC-9E29-E96B26D3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40718-E083-4E9C-9EBF-08F3A8E2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04BE7-CD2F-48AE-A492-7CBD9E6C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228E2-9A8E-4647-9AD3-2E0163A3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79D4E-67D1-4598-AA18-88AF6E28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5BB65-1E76-4B14-A4D5-437FAEA4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F9B1E-DD25-4ABE-BD0A-360E86B2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3263-A57B-4F9A-B916-B2FBD7E2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43B23-C22B-45E6-85A0-E2DDD838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EAE34-3DD5-4B99-8C36-2213E7C8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1C004-2FF1-4D85-9D80-0BD2CF31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BEF34-94DF-4417-B406-D1DB7378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151B8-A31E-4866-AB23-25536D67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3875E-01B9-484A-8B7C-D4A5541D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AF4CB-6CBC-42D8-8BB7-F470750A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E134F-F6FD-46C9-887C-2D4A8CD7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786E2-F988-4510-A18E-D595A402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90CDF-F82E-4B81-A704-36175403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702-81B0-4B0B-B945-35AA4FB3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1DDED-37B7-4508-8929-DFB015C6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2B608-727D-4742-B95B-A99B139F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573C0-A59E-45D6-BFFC-8811E119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8139D-717C-4E58-821B-E3E5438A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6A734-E731-4BDE-9CB4-D9DF6C66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5A7DA-1A2E-4B50-A700-31726D0F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DD1E0-A368-49A4-ABB7-4E7BC19F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4C212-4D7F-4FF3-B698-A8AEF19E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590F6-BC04-40D8-8542-F45A257B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99966-ABCA-4CF7-86C2-D8443D79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3B2-6689-4854-BF00-41C58A47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351D1-E3C2-4E07-8249-9326D615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9596A-FB46-4481-8329-BEB70F6A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BA535-6957-4816-B87E-27954E79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CBC76-4F27-451F-8FC6-B7EA91D3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29B75-99AF-40C5-9C3A-688C2E59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8B52C-5E04-4A3D-B32F-31ED8F6B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927AC-C1F7-4177-9D2D-596757DB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5777C-A839-4200-B8D7-DB2EA25F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D8BFA-1D04-4B08-AD30-B636C13D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1A323-D8ED-4DDF-9851-C5EE432E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5CF-5C62-4507-97C5-5124EB16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1CD24-7A64-4F6E-8C2F-38EE7042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F1F93-7D7E-4385-9485-DDF501C6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47673-AD31-489F-A3D8-F560A52D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93D55-436E-455E-ABD0-45D13602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15B29-24B1-4749-9CE2-62549760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62DA7-D07A-4D75-AF31-B18A3850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1CCBC-7F0B-446F-A63E-A11F0738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6907A-BB61-4192-AABA-56CE07C7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18AF1-8351-4CE1-9810-D0FA610A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B39E8-4247-4F71-B3CB-C4F4226E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CBC-ED59-4BF1-B648-C34140F1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36303-CCAE-48BF-8987-531229A5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2F884-25CB-41CA-B69C-29529B46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F8662-3687-4A11-A916-6DB4965D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0189E-C5A3-4E14-B529-CBA1FE81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ACF5F-D81C-46C1-A4C9-1161C433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8CC23-F3B9-4918-B61F-3F6D0906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E9F3D-C51E-49FA-B64A-6CDDC654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75E60-214A-4A78-8C1E-505DF5BB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3FF0B-1073-446A-B339-E9B86C6B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4C072-41D1-4A65-8D8B-75929354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8DB-21F9-4964-9974-BEE14FFE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6007C-B6A2-4E03-85D5-FB8E32C6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8C556-3579-46CA-B24F-D1242251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39AD4-CED9-4BD3-B7E6-8A017F8A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87DEE-44D9-494E-952F-348A8FAA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31205-3BE5-407D-9867-AD0172F7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96FB1-F4EA-4C0C-8499-32A3B0AD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EA3C3-A98B-4793-8844-EA9EDAF6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95189-D98C-499B-BD5B-2270F1DF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17884-95E6-466D-BD80-10702F4B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20157-8292-4056-8E85-2F8FBAC6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F608-DF15-4096-993A-D77AE45194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21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4C4C-45AF-47DF-BFC2-19DE17E286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64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BPM 2007, Brisba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Austral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 September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0893-A0B8-4D6E-8570-57A9F40E09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07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BPM 2007, Brisba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Austral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 September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49FE-47A4-413F-8FD7-97A5E06FDF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50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BPM 2007, Brisba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Austral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 September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7561-24F8-4829-83DB-47F25543BD22}" type="slidenum">
              <a:rPr b="0" lang="en-US" sz="1600" spc="-1" strike="noStrike">
                <a:solidFill>
                  <a:srgbClr val="33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44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5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6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7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8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9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0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1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2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3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4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5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6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7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8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9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0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1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2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3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4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5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6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7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8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9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0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1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2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3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4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5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</p:grpSp>
      <p:sp>
        <p:nvSpPr>
          <p:cNvPr id="76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77" name="Picture 41" descr="ut-logo"/>
          <p:cNvPicPr/>
          <p:nvPr/>
        </p:nvPicPr>
        <p:blipFill>
          <a:blip r:embed="rId2"/>
          <a:stretch/>
        </p:blipFill>
        <p:spPr>
          <a:xfrm>
            <a:off x="7524720" y="1125360"/>
            <a:ext cx="1368360" cy="134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0FE4-B7DC-4B75-B68A-0E41BA95DEB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CEF3-6596-4C3E-8B05-52E360190F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6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A355-9743-4398-AEC1-3C5DCFDBD85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7193-9EDE-4849-A114-0C02EE8382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2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FB80-AF70-49A0-A121-9F5311FF18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5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8C4E-A00C-49B3-A3EE-4D39C6C9E8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78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8FEA-1E17-4DD6-82D5-F200EA3253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79280" y="466200"/>
            <a:ext cx="70567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0066"/>
                </a:solidFill>
                <a:latin typeface="Arial"/>
              </a:rPr>
              <a:t>Requirements-Driven Design and Configuration Management of BPs</a:t>
            </a:r>
            <a:r>
              <a:rPr b="1" lang="en-CA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611280" y="3049200"/>
            <a:ext cx="648648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exei Lapouch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with Yijun Yu, John Mylopou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7e9ce8"/>
                </a:solidFill>
                <a:latin typeface="Arial"/>
              </a:rPr>
              <a:t>Department of Computer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7e9ce8"/>
                </a:solidFill>
                <a:latin typeface="Arial"/>
              </a:rPr>
              <a:t>University of Toronto,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F0B0-8163-439E-9DEE-F7B43C98C579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Variation Poi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64" name="Object 4"/>
          <p:cNvGraphicFramePr/>
          <p:nvPr/>
        </p:nvGraphicFramePr>
        <p:xfrm>
          <a:off x="1474920" y="1484280"/>
          <a:ext cx="655308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1484280"/>
                    <a:ext cx="655308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6" name="Oval 9"/>
          <p:cNvSpPr/>
          <p:nvPr/>
        </p:nvSpPr>
        <p:spPr>
          <a:xfrm>
            <a:off x="1467000" y="2349360"/>
            <a:ext cx="1800000" cy="1123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7" name="Oval 10"/>
          <p:cNvSpPr/>
          <p:nvPr/>
        </p:nvSpPr>
        <p:spPr>
          <a:xfrm>
            <a:off x="2006640" y="4464000"/>
            <a:ext cx="1800360" cy="1123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8" name="Oval 11"/>
          <p:cNvSpPr/>
          <p:nvPr/>
        </p:nvSpPr>
        <p:spPr>
          <a:xfrm>
            <a:off x="6146640" y="3429000"/>
            <a:ext cx="1800360" cy="1123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E332-30D7-4506-908E-847CE3151719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figuration Option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1871640" y="1449360"/>
          <a:ext cx="531036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1449360"/>
                    <a:ext cx="531036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63B0-BD0F-48C5-AE54-D88D9A5E557F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figuration Option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79" name="Object 4"/>
          <p:cNvGraphicFramePr/>
          <p:nvPr/>
        </p:nvGraphicFramePr>
        <p:xfrm>
          <a:off x="1816200" y="1449360"/>
          <a:ext cx="5497560" cy="47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449360"/>
                    <a:ext cx="549756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7E50-F386-48F5-A287-B06CF4A038CA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Generating Executable BP Specific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771516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enerate WS-BPEL processes from go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emi-automa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tructurally similar to the source goal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7e9ce8"/>
                </a:solidFill>
                <a:latin typeface="Arial"/>
              </a:rPr>
              <a:t>Variability preser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5" name="Object 4"/>
          <p:cNvGraphicFramePr/>
          <p:nvPr/>
        </p:nvGraphicFramePr>
        <p:xfrm>
          <a:off x="1465200" y="3608280"/>
          <a:ext cx="607716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5200" y="3608280"/>
                    <a:ext cx="607716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Object 7"/>
          <p:cNvGraphicFramePr/>
          <p:nvPr/>
        </p:nvGraphicFramePr>
        <p:xfrm>
          <a:off x="1467000" y="3608280"/>
          <a:ext cx="6076800" cy="25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7000" y="3608280"/>
                    <a:ext cx="6076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0F28-16E4-4551-BC3F-D4C8338B2514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Generating Executable BP Specific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77151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Mapping R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Leaf-level goal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WS Invocations (or BPEL process invoca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Higher-level goal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No explicitly mapped. Help in generation of BPEL control flow constr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nditions/Loop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BPEL conditions, lo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vent-driven OR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pick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w/ multiple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onMessage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constr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oftgoal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not map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ppropriate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portTypes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, messages (if I/O is specified), etc. are gene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08CE-56FD-424B-A6AB-CD4B3788EF1F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Mapping Variation Poi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They are a tool to configure executable (and, possibly, deployed) B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Mapping to WS-BP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f-elseif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for BPEL 2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branch corresponds to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ranch condition (XPath) checks if it is the current choice for the variation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ctivities in each branch are automatically generated based on the particular alternative in the goal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All choices are to be implemen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PEL process skeleton is generated. It needs to be comple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The result: </a:t>
            </a:r>
            <a:r>
              <a:rPr b="0" lang="en-CA" sz="2100" spc="-1" strike="noStrike">
                <a:solidFill>
                  <a:srgbClr val="0070c0"/>
                </a:solidFill>
                <a:latin typeface="Arial"/>
              </a:rPr>
              <a:t>High-Variability Executable Model (HVEM)</a:t>
            </a: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 of the business pro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4BD0-D0F2-46E0-86B0-B7B98F84266D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figuring HVEMs at Run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0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rototype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GUI for preference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nfigurator 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Can come up with goal model config based on pref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Can provide the configuration to deployed B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XML Representation for BP 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Object 4"/>
          <p:cNvGraphicFramePr/>
          <p:nvPr/>
        </p:nvGraphicFramePr>
        <p:xfrm>
          <a:off x="2637000" y="4681440"/>
          <a:ext cx="400500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7000" y="4681440"/>
                    <a:ext cx="400500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Object 6"/>
          <p:cNvGraphicFramePr/>
          <p:nvPr/>
        </p:nvGraphicFramePr>
        <p:xfrm>
          <a:off x="5202360" y="1673280"/>
          <a:ext cx="3195360" cy="169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02360" y="1673280"/>
                    <a:ext cx="3195360" cy="1698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BPM 2007, Brisban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Australia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 September, 2007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8C0F-D794-4966-9B39-BF97F841AAB1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7" name="AutoShape 2"/>
          <p:cNvSpPr/>
          <p:nvPr/>
        </p:nvSpPr>
        <p:spPr>
          <a:xfrm flipV="1" rot="6743400">
            <a:off x="-78480" y="3025440"/>
            <a:ext cx="1655640" cy="73368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7e9ce8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09" name="Object 4"/>
          <p:cNvGraphicFramePr/>
          <p:nvPr/>
        </p:nvGraphicFramePr>
        <p:xfrm>
          <a:off x="34920" y="3911760"/>
          <a:ext cx="4897440" cy="22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3911760"/>
                    <a:ext cx="489744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5"/>
          <p:cNvGraphicFramePr/>
          <p:nvPr/>
        </p:nvGraphicFramePr>
        <p:xfrm>
          <a:off x="1258920" y="2205000"/>
          <a:ext cx="2952720" cy="15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205000"/>
                    <a:ext cx="2952720" cy="1565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713" name="AutoShape 6"/>
          <p:cNvSpPr/>
          <p:nvPr/>
        </p:nvSpPr>
        <p:spPr>
          <a:xfrm rot="3775200">
            <a:off x="2237760" y="1297080"/>
            <a:ext cx="1657080" cy="733320"/>
          </a:xfrm>
          <a:custGeom>
            <a:avLst/>
            <a:gdLst>
              <a:gd name="textAreaLeft" fmla="*/ 289800 w 1657080"/>
              <a:gd name="textAreaRight" fmla="*/ 1201320 w 16570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7e9ce8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14" name="Object 7"/>
          <p:cNvGraphicFramePr/>
          <p:nvPr/>
        </p:nvGraphicFramePr>
        <p:xfrm>
          <a:off x="34920" y="44280"/>
          <a:ext cx="2592360" cy="188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0" y="44280"/>
                    <a:ext cx="259236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Rectangle 8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7" name="Rectangle 9"/>
          <p:cNvSpPr/>
          <p:nvPr/>
        </p:nvSpPr>
        <p:spPr>
          <a:xfrm>
            <a:off x="7416720" y="0"/>
            <a:ext cx="1656000" cy="17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8" name="Oval 10"/>
          <p:cNvSpPr/>
          <p:nvPr/>
        </p:nvSpPr>
        <p:spPr>
          <a:xfrm>
            <a:off x="2394000" y="125280"/>
            <a:ext cx="647640" cy="64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Oval 11"/>
          <p:cNvSpPr/>
          <p:nvPr/>
        </p:nvSpPr>
        <p:spPr>
          <a:xfrm>
            <a:off x="728640" y="228600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0" name="Oval 12"/>
          <p:cNvSpPr/>
          <p:nvPr/>
        </p:nvSpPr>
        <p:spPr>
          <a:xfrm>
            <a:off x="3762360" y="440208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21" name="Object 13"/>
          <p:cNvGraphicFramePr/>
          <p:nvPr/>
        </p:nvGraphicFramePr>
        <p:xfrm>
          <a:off x="6019920" y="4689360"/>
          <a:ext cx="2557440" cy="98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2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689360"/>
                    <a:ext cx="255744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Oval 14"/>
          <p:cNvSpPr/>
          <p:nvPr/>
        </p:nvSpPr>
        <p:spPr>
          <a:xfrm>
            <a:off x="5516640" y="483228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4" name="Oval 15"/>
          <p:cNvSpPr/>
          <p:nvPr/>
        </p:nvSpPr>
        <p:spPr>
          <a:xfrm>
            <a:off x="3699000" y="228600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5" name="AutoShape 16"/>
          <p:cNvSpPr/>
          <p:nvPr/>
        </p:nvSpPr>
        <p:spPr>
          <a:xfrm>
            <a:off x="3141720" y="3033720"/>
            <a:ext cx="934920" cy="216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6" name="Rectangle 17"/>
          <p:cNvSpPr/>
          <p:nvPr/>
        </p:nvSpPr>
        <p:spPr>
          <a:xfrm>
            <a:off x="6058080" y="5678640"/>
            <a:ext cx="2439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 deployed generic process gets the appropriate configuration.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Rectangle 18"/>
          <p:cNvSpPr/>
          <p:nvPr/>
        </p:nvSpPr>
        <p:spPr>
          <a:xfrm>
            <a:off x="3492360" y="6219720"/>
            <a:ext cx="220500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8" name="Rectangle 19"/>
          <p:cNvSpPr/>
          <p:nvPr/>
        </p:nvSpPr>
        <p:spPr>
          <a:xfrm>
            <a:off x="1150920" y="6199200"/>
            <a:ext cx="2925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iven high-level preferences, the appropriate configuration is selected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29" name="Object 20"/>
          <p:cNvGraphicFramePr/>
          <p:nvPr/>
        </p:nvGraphicFramePr>
        <p:xfrm>
          <a:off x="4527720" y="68400"/>
          <a:ext cx="3958920" cy="169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0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27720" y="68400"/>
                    <a:ext cx="395892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Rectangle 21"/>
          <p:cNvSpPr/>
          <p:nvPr/>
        </p:nvSpPr>
        <p:spPr>
          <a:xfrm>
            <a:off x="4842000" y="1865160"/>
            <a:ext cx="4216320" cy="260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746680" y="1943280"/>
            <a:ext cx="2440080" cy="40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BP Configuration</a:t>
            </a:r>
            <a:endParaRPr b="1" lang="en-US" sz="2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33" name="Object 23"/>
          <p:cNvGraphicFramePr/>
          <p:nvPr/>
        </p:nvGraphicFramePr>
        <p:xfrm>
          <a:off x="4915080" y="2413080"/>
          <a:ext cx="4071600" cy="202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4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15080" y="2413080"/>
                    <a:ext cx="407160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5" name="Oval 24"/>
          <p:cNvSpPr/>
          <p:nvPr/>
        </p:nvSpPr>
        <p:spPr>
          <a:xfrm>
            <a:off x="4076640" y="125280"/>
            <a:ext cx="647640" cy="64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4037-83A7-4D36-A77E-BE2448BE5E25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Discus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Model BPs at high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xplicit representation of quality attributes (softgo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nalysis of alternatives w.r.t. soft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Traceability to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P configuration at high-level, in user-oriented te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High-level visualization of BPs using goal models is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xplicit representation of BP altern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lk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Requirements-driven configur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Using contexts to capture domain variability and its effects on B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owards adaptive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17AB-8C5D-4CAA-B766-A10E7FACB465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81E0-7472-49D1-8EFF-723ECD91FC2D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Our Aim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6320"/>
            <a:ext cx="8229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velop a method for </a:t>
            </a:r>
            <a:r>
              <a:rPr b="0" lang="en-CA" sz="2800" spc="-1" strike="noStrike">
                <a:solidFill>
                  <a:srgbClr val="7e9ce8"/>
                </a:solidFill>
                <a:latin typeface="Arial"/>
              </a:rPr>
              <a:t>requirements-drive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pecification and configuration of business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 design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explicitly specify, refine and analyze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goals of business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model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quality constraint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lated to 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capture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alternative way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f achieving the goals of BPs and to model their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effect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n quality constraints –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high-variabilit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neration of high-variability executable BPs based on go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eyond Intentional Variabil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71900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ntentional variability cannot capture all the details needed for flexible, adaptable systems. Too high-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0E75-0E0E-44FE-91A1-8727AFA842F4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8" name="Content Placeholder 2"/>
          <p:cNvSpPr/>
          <p:nvPr/>
        </p:nvSpPr>
        <p:spPr>
          <a:xfrm>
            <a:off x="609480" y="3384720"/>
            <a:ext cx="47181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How can we model the fact that automatic approval for large orders is </a:t>
            </a: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very risky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, while for others, its just risky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49" name="Object 5"/>
          <p:cNvGraphicFramePr/>
          <p:nvPr/>
        </p:nvGraphicFramePr>
        <p:xfrm>
          <a:off x="5094360" y="2859120"/>
          <a:ext cx="4011480" cy="27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4360" y="2859120"/>
                    <a:ext cx="401148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king the environment into consid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38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Environment (domain) characteristics and their dynamics affect the requirements and must be taken into consideratio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We take the intentional view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main characteristics influence the requirements and the behaviour of the system. In particular, they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ffect the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requirements themselv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: what is required of the system, i.e., system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ffect/constrain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goal refineme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e.g., change the available alternatives to achieve system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how alternatives are evaluated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.r.t. soft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prioriti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ver quality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25EC-04A5-4EC0-A512-406361BB277C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77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Our view of contex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482760" y="9842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perties of the environment that affect requirements are captured using </a:t>
            </a:r>
            <a:r>
              <a:rPr b="0" i="1" lang="en-CA" sz="2800" spc="-1" strike="noStrike">
                <a:solidFill>
                  <a:srgbClr val="ff0000"/>
                </a:solidFill>
                <a:latin typeface="Arial"/>
              </a:rPr>
              <a:t>context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asic definition of a con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Abstraction over domain assumptions and/or properti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ny things can be considered to be parts of a con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ardware/softwar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PU/bandwidth utilization, current system load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istory of user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istory of attempted adap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urrent and recent system/process metric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6782-7AA6-4C1A-88E4-064CD242B3DC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495936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apturing contex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339920"/>
            <a:ext cx="822960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Context Ent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Things that the process works on (documents/data, supplies, etc.) or with (users, business partners, legacy system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Influence the process (management, owners, government regulator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Other things (date, time, weather conditions, etc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ntext entities have </a:t>
            </a: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context 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Properties that affect the requirements (e.g., size, location, importance, utilization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363A-1C91-4ED1-BA01-DCC909D85C79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63" name="Object 6"/>
          <p:cNvGraphicFramePr/>
          <p:nvPr/>
        </p:nvGraphicFramePr>
        <p:xfrm>
          <a:off x="1238400" y="2717640"/>
          <a:ext cx="6746760" cy="21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2717640"/>
                    <a:ext cx="6746760" cy="21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text refinement hierarch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57200" y="129492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Contexts can be arranged in hierarch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tructure the do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implify the modeling of the effects that contexts have on the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Leaf-level contexts are </a:t>
            </a:r>
            <a:r>
              <a:rPr b="0" i="1" lang="en-CA" sz="2600" spc="-1" strike="noStrike">
                <a:solidFill>
                  <a:srgbClr val="0070c0"/>
                </a:solidFill>
                <a:latin typeface="Arial"/>
              </a:rPr>
              <a:t>defined</a:t>
            </a: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o determine when they are </a:t>
            </a:r>
            <a:r>
              <a:rPr b="0" i="1" lang="en-CA" sz="26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C051-1145-43B0-B030-EE9B4D301DC2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69" name="Object 3"/>
          <p:cNvGraphicFramePr/>
          <p:nvPr/>
        </p:nvGraphicFramePr>
        <p:xfrm>
          <a:off x="1504800" y="4095720"/>
          <a:ext cx="607068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4095720"/>
                    <a:ext cx="607068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dding contexts to goal mode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EASS 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BC8B-A641-4666-8CA2-1DB9A1094F70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74" name="Object 6"/>
          <p:cNvGraphicFramePr/>
          <p:nvPr/>
        </p:nvGraphicFramePr>
        <p:xfrm>
          <a:off x="184320" y="1251000"/>
          <a:ext cx="887724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251000"/>
                    <a:ext cx="887724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Object 8"/>
          <p:cNvGraphicFramePr/>
          <p:nvPr/>
        </p:nvGraphicFramePr>
        <p:xfrm>
          <a:off x="482760" y="3138480"/>
          <a:ext cx="7704000" cy="357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760" y="3138480"/>
                    <a:ext cx="770400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More Examples of Contex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3061-F250-4E19-9F62-A154621EF293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81" name="Object 3"/>
          <p:cNvGraphicFramePr/>
          <p:nvPr/>
        </p:nvGraphicFramePr>
        <p:xfrm>
          <a:off x="328680" y="1117440"/>
          <a:ext cx="5289480" cy="51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117440"/>
                    <a:ext cx="5289480" cy="5156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83" name="Object 5"/>
          <p:cNvGraphicFramePr/>
          <p:nvPr/>
        </p:nvGraphicFramePr>
        <p:xfrm>
          <a:off x="5796000" y="2685960"/>
          <a:ext cx="3043080" cy="25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2685960"/>
                    <a:ext cx="3043080" cy="2565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Using contex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Several ways context can be us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Process instance configuration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o suit the current context. E.g. (the BP example), look at current date/time, order/customer properties, product characteristics, shipping destination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ynamic environment results in dynamic context. Thus, context can be monitored and </a:t>
            </a: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process instances can be adapted to changing context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758E-D322-48E4-9984-801F3A6F2DB6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Supporting Dynamic Contex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aptive systems change in dynamic environments – i.e., </a:t>
            </a:r>
            <a:r>
              <a:rPr b="0" lang="en-CA" sz="2800" spc="-1" strike="noStrike">
                <a:solidFill>
                  <a:srgbClr val="0070c0"/>
                </a:solidFill>
                <a:latin typeface="Arial"/>
              </a:rPr>
              <a:t>when context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ed to understand which contexts are static and which are dynamic within a process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metimes it’s not clear. E.g., customer risk in the presence of multiple process in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nge in context entity indicates change i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xt monitoring using context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3C46-D0F0-4C31-8A07-E54390AA5792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lk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Requirements-driven configur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Using contexts to capture domain variability and its effects on B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Towards adaptive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3E31-C550-4385-80DB-E352F338C041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4295-E3A3-440A-A4D3-662499971105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Our Aim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Fine-grained modeling of BPs based on varying </a:t>
            </a:r>
            <a:r>
              <a:rPr b="0" lang="en-CA" sz="2500" spc="-1" strike="noStrike">
                <a:solidFill>
                  <a:srgbClr val="0070c0"/>
                </a:solidFill>
                <a:latin typeface="Arial"/>
              </a:rPr>
              <a:t>environment characteris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 run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aceability to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figuration of BPs based on current business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Specified at high level in user-oriented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Support for BP adaptation based on dynamically changing domain proper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BP adaptation based on BAM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385B-A0FE-4EC6-AEAF-28AA97DB85FF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P Reconfiguration/Adap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473120"/>
            <a:ext cx="4970520" cy="46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669999"/>
                </a:solidFill>
                <a:latin typeface="Arial"/>
              </a:rPr>
              <a:t>Adaptatio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s done through 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BP reconfiguratio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Arial"/>
              </a:rPr>
              <a:t>switching to a better alternative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0000"/>
                </a:solidFill>
                <a:latin typeface="Arial"/>
              </a:rPr>
              <a:t>Anticipate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nalysis and reconfiguration is done at 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high level in terms of goal model alternative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auses for reconfigur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Change in requirements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(e.g., business user priorit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As a response to BP moni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ff0000"/>
                </a:solidFill>
                <a:latin typeface="Arial"/>
              </a:rPr>
              <a:t>Changing environment (contex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1" name="Object 2"/>
          <p:cNvGraphicFramePr/>
          <p:nvPr/>
        </p:nvGraphicFramePr>
        <p:xfrm>
          <a:off x="5576760" y="2303640"/>
          <a:ext cx="3451320" cy="28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6760" y="2303640"/>
                    <a:ext cx="345132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daptive B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57200" y="125064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ust have measurable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ead/lag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rom qualitative to quantitativ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perationalization of soft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pping to metrics/K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oftgoal desired satisfaction levels =&gt; target values or r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an be done in th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ometimes needs to be exposed – e.g., customer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Qualitative is still useful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B456-AFBE-4EE5-9E11-D43C0220EC18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6F6F-0AE3-458F-B3AC-50D65E3A5BB5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P Reconfigu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810" name="Object 2"/>
          <p:cNvGraphicFramePr/>
          <p:nvPr/>
        </p:nvGraphicFramePr>
        <p:xfrm>
          <a:off x="171360" y="1019160"/>
          <a:ext cx="7918560" cy="52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019160"/>
                    <a:ext cx="79185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2" name="Oval 10"/>
          <p:cNvSpPr/>
          <p:nvPr/>
        </p:nvSpPr>
        <p:spPr>
          <a:xfrm>
            <a:off x="1727280" y="167328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3" name="Oval 11"/>
          <p:cNvSpPr/>
          <p:nvPr/>
        </p:nvSpPr>
        <p:spPr>
          <a:xfrm>
            <a:off x="3490920" y="2006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4" name="Oval 12"/>
          <p:cNvSpPr/>
          <p:nvPr/>
        </p:nvSpPr>
        <p:spPr>
          <a:xfrm>
            <a:off x="7365960" y="2006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5" name="Oval 13"/>
          <p:cNvSpPr/>
          <p:nvPr/>
        </p:nvSpPr>
        <p:spPr>
          <a:xfrm>
            <a:off x="5543640" y="2451240"/>
            <a:ext cx="495360" cy="495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6" name="Oval 14"/>
          <p:cNvSpPr/>
          <p:nvPr/>
        </p:nvSpPr>
        <p:spPr>
          <a:xfrm>
            <a:off x="5587920" y="329400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7" name="Oval 15"/>
          <p:cNvSpPr/>
          <p:nvPr/>
        </p:nvSpPr>
        <p:spPr>
          <a:xfrm>
            <a:off x="7321680" y="4229280"/>
            <a:ext cx="495000" cy="495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8" name="Oval 16"/>
          <p:cNvSpPr/>
          <p:nvPr/>
        </p:nvSpPr>
        <p:spPr>
          <a:xfrm>
            <a:off x="5607000" y="545472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9" name="Oval 17"/>
          <p:cNvSpPr/>
          <p:nvPr/>
        </p:nvSpPr>
        <p:spPr>
          <a:xfrm>
            <a:off x="1601640" y="5273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0" name="Oval 18"/>
          <p:cNvSpPr/>
          <p:nvPr/>
        </p:nvSpPr>
        <p:spPr>
          <a:xfrm>
            <a:off x="3492360" y="3833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D826-D79A-4977-9BB1-1399BAD39082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urrent/Future 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Runtime optimiz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rom softgoals to metrics/KP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Runtime evaluation of BP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ntext-based adaptation of B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erformance contex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Contexts based on how well targets are being m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Modeling mitigation techniq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rom contexts to B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ntegration of preference-based, context-based, performance-based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7C4C-83AD-48DE-A9A3-478A1CFC387D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827" name="Picture 2" descr="ThankYou_Graphic_White"/>
          <p:cNvPicPr/>
          <p:nvPr/>
        </p:nvPicPr>
        <p:blipFill>
          <a:blip r:embed="rId1"/>
          <a:stretch/>
        </p:blipFill>
        <p:spPr>
          <a:xfrm>
            <a:off x="2319480" y="1895400"/>
            <a:ext cx="4429080" cy="241956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3"/>
          <p:cNvSpPr/>
          <p:nvPr/>
        </p:nvSpPr>
        <p:spPr>
          <a:xfrm>
            <a:off x="3223440" y="464184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lexei@cs.toronto.edu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lk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Requirements-driven configur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Using contexts to capture domain variability and its effects on B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owards adaptive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3635-5914-4634-9764-BDC279E41378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026F-8AEA-4B4D-899F-5DF60D0A627C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tiv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60280" y="1206000"/>
            <a:ext cx="8623440" cy="510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Business Process (BP) is seen as a collection of </a:t>
            </a:r>
            <a:r>
              <a:rPr b="0" lang="en-CA" sz="1800" spc="-1" strike="noStrike">
                <a:solidFill>
                  <a:srgbClr val="7e9ce8"/>
                </a:solidFill>
                <a:latin typeface="Arial"/>
              </a:rPr>
              <a:t>activitie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that achieves a certain </a:t>
            </a:r>
            <a:r>
              <a:rPr b="0" lang="en-CA" sz="1800" spc="-1" strike="noStrike">
                <a:solidFill>
                  <a:srgbClr val="7e9ce8"/>
                </a:solidFill>
                <a:latin typeface="Arial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wever, BPs are usually represent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orkflows (e.g., BPMN), executable workflows (e.g., WS-BP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Can capture and analyze certain aspects of BPs, bu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oblems ex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urpose is rarely explicitly re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orkflows do not usually cap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choices in achieving the goals of 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rationale for sequencing and other decisions, non-functional asp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omain properties and how they influence th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r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Select process configuration with desired quality characteristic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Configure a process based on the characteristics of the doma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Configure processes at high level, w/o extensive knowledge of modeling no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7e9ce8"/>
                </a:solidFill>
                <a:latin typeface="Arial"/>
                <a:ea typeface="Arial"/>
              </a:rPr>
              <a:t>Maintenance and adaptation ar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Supply Customer BP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8DB2-7835-4B94-B515-F8B25B631840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21" name="Object 4"/>
          <p:cNvGraphicFramePr/>
          <p:nvPr/>
        </p:nvGraphicFramePr>
        <p:xfrm>
          <a:off x="2052720" y="1606680"/>
          <a:ext cx="621648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606680"/>
                    <a:ext cx="621648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AutoShape 7"/>
          <p:cNvSpPr/>
          <p:nvPr/>
        </p:nvSpPr>
        <p:spPr>
          <a:xfrm>
            <a:off x="216000" y="5829480"/>
            <a:ext cx="1346040" cy="609480"/>
          </a:xfrm>
          <a:prstGeom prst="wedgeRoundRectCallout">
            <a:avLst>
              <a:gd name="adj1" fmla="val 114648"/>
              <a:gd name="adj2" fmla="val -70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Functional Goal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4" name="AutoShape 8"/>
          <p:cNvSpPr/>
          <p:nvPr/>
        </p:nvSpPr>
        <p:spPr>
          <a:xfrm>
            <a:off x="6300720" y="1606680"/>
            <a:ext cx="914400" cy="609480"/>
          </a:xfrm>
          <a:prstGeom prst="wedgeRoundRectCallout">
            <a:avLst>
              <a:gd name="adj1" fmla="val -148092"/>
              <a:gd name="adj2" fmla="val -9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Root Goal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5" name="AutoShape 9"/>
          <p:cNvSpPr/>
          <p:nvPr/>
        </p:nvSpPr>
        <p:spPr>
          <a:xfrm>
            <a:off x="162000" y="1873080"/>
            <a:ext cx="1512720" cy="609840"/>
          </a:xfrm>
          <a:prstGeom prst="wedgeRoundRectCallout">
            <a:avLst>
              <a:gd name="adj1" fmla="val 96379"/>
              <a:gd name="adj2" fmla="val -3854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Quality Goal (Softgoal)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6" name="AutoShape 10"/>
          <p:cNvSpPr/>
          <p:nvPr/>
        </p:nvSpPr>
        <p:spPr>
          <a:xfrm>
            <a:off x="162000" y="2817720"/>
            <a:ext cx="1562040" cy="647640"/>
          </a:xfrm>
          <a:prstGeom prst="wedgeRoundRectCallout">
            <a:avLst>
              <a:gd name="adj1" fmla="val 86888"/>
              <a:gd name="adj2" fmla="val -5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oftgoal Contribution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AutoShape 11"/>
          <p:cNvSpPr/>
          <p:nvPr/>
        </p:nvSpPr>
        <p:spPr>
          <a:xfrm>
            <a:off x="7812000" y="2089080"/>
            <a:ext cx="1081080" cy="1079640"/>
          </a:xfrm>
          <a:prstGeom prst="wedgeRoundRectCallout">
            <a:avLst>
              <a:gd name="adj1" fmla="val -133111"/>
              <a:gd name="adj2" fmla="val 469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Control Flow Annota-tion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8" name="AutoShape 14"/>
          <p:cNvSpPr/>
          <p:nvPr/>
        </p:nvSpPr>
        <p:spPr>
          <a:xfrm>
            <a:off x="216000" y="5029200"/>
            <a:ext cx="1346040" cy="609480"/>
          </a:xfrm>
          <a:prstGeom prst="wedgeRoundRectCallout">
            <a:avLst>
              <a:gd name="adj1" fmla="val 453203"/>
              <a:gd name="adj2" fmla="val -22786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Variation Point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9" name="Oval 16"/>
          <p:cNvSpPr/>
          <p:nvPr/>
        </p:nvSpPr>
        <p:spPr>
          <a:xfrm>
            <a:off x="2411280" y="2368440"/>
            <a:ext cx="360360" cy="271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0" name="Oval 15"/>
          <p:cNvSpPr/>
          <p:nvPr/>
        </p:nvSpPr>
        <p:spPr>
          <a:xfrm>
            <a:off x="2185920" y="2638440"/>
            <a:ext cx="360360" cy="271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1" name="Oval 17"/>
          <p:cNvSpPr/>
          <p:nvPr/>
        </p:nvSpPr>
        <p:spPr>
          <a:xfrm>
            <a:off x="4122720" y="5068800"/>
            <a:ext cx="944640" cy="314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Oval 18"/>
          <p:cNvSpPr/>
          <p:nvPr/>
        </p:nvSpPr>
        <p:spPr>
          <a:xfrm>
            <a:off x="6912000" y="3763800"/>
            <a:ext cx="944640" cy="314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3" name="Oval 19"/>
          <p:cNvSpPr/>
          <p:nvPr/>
        </p:nvSpPr>
        <p:spPr>
          <a:xfrm>
            <a:off x="2681280" y="2908440"/>
            <a:ext cx="944640" cy="314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Rectangle 25"/>
          <p:cNvSpPr/>
          <p:nvPr/>
        </p:nvSpPr>
        <p:spPr>
          <a:xfrm>
            <a:off x="260280" y="3606840"/>
            <a:ext cx="13492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Help ( + 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Make (++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Hurt ( – 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Break (</a:t>
            </a: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 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78B0-8F98-4623-B950-02D944B33966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Increasing Precision with Annot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31640" y="171756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oal models do not capture enough information to be useful in semi-automatic generation of workfl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nnotations to increase pr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nno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ntrol flow (sequence, concurrency, loops, condi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xternal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nput/output can also be mode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3399"/>
                </a:solidFill>
                <a:latin typeface="Arial"/>
              </a:rPr>
              <a:t>Annotations – capture domain properties, not design decisio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EFB3-9886-4934-8373-52330027F7D4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Increasing Precision with Annot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43" name="Object 4"/>
          <p:cNvGraphicFramePr/>
          <p:nvPr/>
        </p:nvGraphicFramePr>
        <p:xfrm>
          <a:off x="1467000" y="1538280"/>
          <a:ext cx="659736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1538280"/>
                    <a:ext cx="659736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Oval 6"/>
          <p:cNvSpPr/>
          <p:nvPr/>
        </p:nvSpPr>
        <p:spPr>
          <a:xfrm>
            <a:off x="3581280" y="3743280"/>
            <a:ext cx="1260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6" name="Oval 7"/>
          <p:cNvSpPr/>
          <p:nvPr/>
        </p:nvSpPr>
        <p:spPr>
          <a:xfrm>
            <a:off x="5381640" y="3789360"/>
            <a:ext cx="108108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7" name="AutoShape 8"/>
          <p:cNvSpPr/>
          <p:nvPr/>
        </p:nvSpPr>
        <p:spPr>
          <a:xfrm>
            <a:off x="297000" y="3068640"/>
            <a:ext cx="1368360" cy="638280"/>
          </a:xfrm>
          <a:prstGeom prst="wedgeRoundRectCallout">
            <a:avLst>
              <a:gd name="adj1" fmla="val 205569"/>
              <a:gd name="adj2" fmla="val 87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8" name="Oval 10"/>
          <p:cNvSpPr/>
          <p:nvPr/>
        </p:nvSpPr>
        <p:spPr>
          <a:xfrm>
            <a:off x="1511280" y="5364000"/>
            <a:ext cx="1216080" cy="36036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AutoShape 9"/>
          <p:cNvSpPr/>
          <p:nvPr/>
        </p:nvSpPr>
        <p:spPr>
          <a:xfrm>
            <a:off x="206280" y="4373640"/>
            <a:ext cx="1368360" cy="728640"/>
          </a:xfrm>
          <a:prstGeom prst="wedgeRoundRectCallout">
            <a:avLst>
              <a:gd name="adj1" fmla="val 56148"/>
              <a:gd name="adj2" fmla="val 108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External Event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0" name="Oval 13"/>
          <p:cNvSpPr/>
          <p:nvPr/>
        </p:nvSpPr>
        <p:spPr>
          <a:xfrm>
            <a:off x="4976640" y="3024360"/>
            <a:ext cx="1035360" cy="3618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1" name="AutoShape 12"/>
          <p:cNvSpPr/>
          <p:nvPr/>
        </p:nvSpPr>
        <p:spPr>
          <a:xfrm>
            <a:off x="6686640" y="1584360"/>
            <a:ext cx="1368360" cy="549360"/>
          </a:xfrm>
          <a:prstGeom prst="wedgeRoundRectCallout">
            <a:avLst>
              <a:gd name="adj1" fmla="val -112296"/>
              <a:gd name="adj2" fmla="val 2268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2" name="AutoShape 14"/>
          <p:cNvSpPr/>
          <p:nvPr/>
        </p:nvSpPr>
        <p:spPr>
          <a:xfrm>
            <a:off x="7316640" y="2259000"/>
            <a:ext cx="1576440" cy="549360"/>
          </a:xfrm>
          <a:prstGeom prst="wedgeRoundRectCallout">
            <a:avLst>
              <a:gd name="adj1" fmla="val -91087"/>
              <a:gd name="adj2" fmla="val 1179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Oval 15"/>
          <p:cNvSpPr/>
          <p:nvPr/>
        </p:nvSpPr>
        <p:spPr>
          <a:xfrm>
            <a:off x="6146640" y="2889360"/>
            <a:ext cx="765360" cy="4046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4" name="Oval 16"/>
          <p:cNvSpPr/>
          <p:nvPr/>
        </p:nvSpPr>
        <p:spPr>
          <a:xfrm>
            <a:off x="4616280" y="2124000"/>
            <a:ext cx="765360" cy="40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5" name="AutoShape 17"/>
          <p:cNvSpPr/>
          <p:nvPr/>
        </p:nvSpPr>
        <p:spPr>
          <a:xfrm>
            <a:off x="5651640" y="998640"/>
            <a:ext cx="1368360" cy="549000"/>
          </a:xfrm>
          <a:prstGeom prst="wedgeRoundRectCallout">
            <a:avLst>
              <a:gd name="adj1" fmla="val -89097"/>
              <a:gd name="adj2" fmla="val 180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D3EC-12F7-425F-A485-7BA46351DCE4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High-Level BP Configu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ant to configure BPs based on preferences over 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quality attribute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(softgoa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Main mechanism to capture variability and to configure goal models: </a:t>
            </a:r>
            <a:r>
              <a:rPr b="0" i="1" lang="en-CA" sz="2600" spc="-1" strike="noStrike">
                <a:solidFill>
                  <a:srgbClr val="7e9ce8"/>
                </a:solidFill>
                <a:latin typeface="Arial"/>
              </a:rPr>
              <a:t>preference-driven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 OR decompositions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0" i="1" lang="en-CA" sz="2600" spc="-1" strike="noStrike">
                <a:solidFill>
                  <a:srgbClr val="7e9ce8"/>
                </a:solidFill>
                <a:latin typeface="Arial"/>
              </a:rPr>
              <a:t>Variation 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(vs. data-driven or event-driven process varia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.g., Ship Order: either Ship Standard or Ship Ex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lternatives achieve the same t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Difference in </a:t>
            </a:r>
            <a:r>
              <a:rPr b="0" lang="en-CA" sz="2200" spc="-1" strike="noStrike">
                <a:solidFill>
                  <a:srgbClr val="7e9ce8"/>
                </a:solidFill>
                <a:latin typeface="Arial"/>
              </a:rPr>
              <a:t>softgoal contrib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ff3399"/>
                </a:solidFill>
                <a:uFillTx/>
                <a:latin typeface="Arial"/>
              </a:rPr>
              <a:t>Softgoals act as selection criteria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for choosing BP configu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22:38:40Z</dcterms:created>
  <dc:creator>AL</dc:creator>
  <dc:description/>
  <dc:language>en-US</dc:language>
  <cp:lastModifiedBy>Alexei Lapouchnian</cp:lastModifiedBy>
  <dcterms:modified xsi:type="dcterms:W3CDTF">2008-10-29T15:50:43Z</dcterms:modified>
  <cp:revision>250</cp:revision>
  <dc:subject/>
  <dc:title>Slide 1</dc:title>
</cp:coreProperties>
</file>