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17.wmf" ContentType="image/x-wmf"/>
  <Override PartName="/ppt/media/image37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jpeg" ContentType="image/jpeg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5DB772-3B38-460B-BB54-46786927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385A5B-89C4-4A37-AA70-CB3C2C52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ompliance for Business Processes Based on URN CASCON Worksho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ucmnav.softwareengineering.ca/twiki/bin/view/ProjetSEG/KPIDem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siness Process Modeling, Analysis and Monitoring with URN, jUCMNav and Cognos 8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5181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Alireza Poursha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gfei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iel Amy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ael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am Pe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SCON  Workshop, October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1630440"/>
            <a:ext cx="5662440" cy="408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5486400" y="58752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Oval 14"/>
          <p:cNvSpPr/>
          <p:nvPr/>
        </p:nvSpPr>
        <p:spPr>
          <a:xfrm>
            <a:off x="5715000" y="2568600"/>
            <a:ext cx="23623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B1FA19F-4A20-49DD-B9B1-852C4CB26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833 -0.15556 L 0 1.11111E-006 E">
                                      <p:cBhvr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542304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Process Modelling, Analysis and Monitoring with URN, jUCMNav and Cognos 8  -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CASCO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213080" y="2070000"/>
          <a:ext cx="4545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2070000"/>
                    <a:ext cx="4545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0" y="18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28600" y="3365640"/>
          <a:ext cx="389088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65640"/>
                    <a:ext cx="38908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5"/>
          <p:cNvSpPr/>
          <p:nvPr/>
        </p:nvSpPr>
        <p:spPr>
          <a:xfrm>
            <a:off x="2080800" y="253836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Hierarc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5"/>
          <a:stretch/>
        </p:blipFill>
        <p:spPr>
          <a:xfrm>
            <a:off x="4876920" y="838080"/>
            <a:ext cx="1633320" cy="11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>
            <a:off x="258840" y="1076400"/>
            <a:ext cx="3184560" cy="11682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1805040" y="1886040"/>
            <a:ext cx="728640" cy="16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86400" y="1981080"/>
            <a:ext cx="1120680" cy="16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Straight Arrow Connector 26"/>
          <p:cNvCxnSpPr/>
          <p:nvPr/>
        </p:nvCxnSpPr>
        <p:spPr>
          <a:xfrm flipH="1" flipV="1">
            <a:off x="1066320" y="4050720"/>
            <a:ext cx="365832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28"/>
          <p:cNvCxnSpPr/>
          <p:nvPr/>
        </p:nvCxnSpPr>
        <p:spPr>
          <a:xfrm flipH="1" flipV="1">
            <a:off x="1904760" y="4050720"/>
            <a:ext cx="434376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0B29744-40B5-4CF8-9BA2-3917862BAD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  <a:ea typeface="宋体"/>
              </a:rPr>
              <a:t>KPI model in URN</a:t>
            </a:r>
            <a:endParaRPr b="0" lang="en-US" sz="2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2133720" y="2252520"/>
          <a:ext cx="4273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52520"/>
                    <a:ext cx="4273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>
            <a:off x="2643120" y="1752480"/>
            <a:ext cx="3276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N       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662280" y="1351080"/>
            <a:ext cx="0" cy="3795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FA3436E-0607-4758-94D3-3EA937F6CF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09480" y="1066680"/>
            <a:ext cx="7848720" cy="4800600"/>
            <a:chOff x="609480" y="1066680"/>
            <a:chExt cx="7848720" cy="4800600"/>
          </a:xfrm>
        </p:grpSpPr>
        <p:graphicFrame>
          <p:nvGraphicFramePr>
            <p:cNvPr id="161" name="Object 2"/>
            <p:cNvGraphicFramePr/>
            <p:nvPr/>
          </p:nvGraphicFramePr>
          <p:xfrm>
            <a:off x="609480" y="1066680"/>
            <a:ext cx="5196600" cy="383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5196600" cy="383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3"/>
            <p:cNvGraphicFramePr/>
            <p:nvPr/>
          </p:nvGraphicFramePr>
          <p:xfrm>
            <a:off x="3994920" y="1694880"/>
            <a:ext cx="4463280" cy="417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4920" y="1694880"/>
                      <a:ext cx="4463280" cy="417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6BDA66A-2816-41BB-960D-BBBAD6CF7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 (Cont.)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533520" y="1219320"/>
          <a:ext cx="747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47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989E540-C79E-4429-BC09-B79398502D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6"/>
          <p:cNvCxnSpPr/>
          <p:nvPr/>
        </p:nvCxnSpPr>
        <p:spPr>
          <a:xfrm flipH="1" flipV="1">
            <a:off x="4974480" y="179460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4" name="TextBox 7" descr=""/>
          <p:cNvPicPr/>
          <p:nvPr/>
        </p:nvPicPr>
        <p:blipFill>
          <a:blip r:embed="rId2"/>
          <a:stretch/>
        </p:blipFill>
        <p:spPr>
          <a:xfrm>
            <a:off x="6046920" y="1530360"/>
            <a:ext cx="877680" cy="46368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8"/>
          <p:cNvCxnSpPr/>
          <p:nvPr/>
        </p:nvCxnSpPr>
        <p:spPr>
          <a:xfrm flipH="1" flipV="1">
            <a:off x="3504600" y="69624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6" name="TextBox 9" descr=""/>
          <p:cNvPicPr/>
          <p:nvPr/>
        </p:nvPicPr>
        <p:blipFill>
          <a:blip r:embed="rId3"/>
          <a:stretch/>
        </p:blipFill>
        <p:spPr>
          <a:xfrm>
            <a:off x="4206960" y="433440"/>
            <a:ext cx="2230200" cy="46188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1"/>
          <p:cNvCxnSpPr/>
          <p:nvPr/>
        </p:nvCxnSpPr>
        <p:spPr>
          <a:xfrm flipH="1">
            <a:off x="5420880" y="2557440"/>
            <a:ext cx="294480" cy="32760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8" name="TextBox 12" descr=""/>
          <p:cNvPicPr/>
          <p:nvPr/>
        </p:nvPicPr>
        <p:blipFill>
          <a:blip r:embed="rId4"/>
          <a:stretch/>
        </p:blipFill>
        <p:spPr>
          <a:xfrm>
            <a:off x="4595760" y="2109960"/>
            <a:ext cx="3316320" cy="8283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18"/>
          <p:cNvCxnSpPr/>
          <p:nvPr/>
        </p:nvCxnSpPr>
        <p:spPr>
          <a:xfrm>
            <a:off x="739800" y="2252520"/>
            <a:ext cx="660600" cy="2782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80" name="TextBox 19" descr=""/>
          <p:cNvPicPr/>
          <p:nvPr/>
        </p:nvPicPr>
        <p:blipFill>
          <a:blip r:embed="rId5"/>
          <a:stretch/>
        </p:blipFill>
        <p:spPr>
          <a:xfrm>
            <a:off x="-23760" y="542880"/>
            <a:ext cx="828720" cy="328608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3" descr=""/>
          <p:cNvPicPr/>
          <p:nvPr/>
        </p:nvPicPr>
        <p:blipFill>
          <a:blip r:embed="rId6"/>
          <a:stretch/>
        </p:blipFill>
        <p:spPr>
          <a:xfrm>
            <a:off x="6016680" y="4297320"/>
            <a:ext cx="2614680" cy="463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95480" y="4081320"/>
            <a:ext cx="2819520" cy="83844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6320" y="4572000"/>
            <a:ext cx="1828800" cy="53352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extBox 16" descr=""/>
          <p:cNvPicPr/>
          <p:nvPr/>
        </p:nvPicPr>
        <p:blipFill>
          <a:blip r:embed="rId7"/>
          <a:stretch/>
        </p:blipFill>
        <p:spPr>
          <a:xfrm>
            <a:off x="225360" y="5516640"/>
            <a:ext cx="1695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rchitectur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551400" y="152280"/>
          <a:ext cx="5421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1400" y="152280"/>
                    <a:ext cx="5421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13"/>
          <p:cNvSpPr/>
          <p:nvPr/>
        </p:nvSpPr>
        <p:spPr>
          <a:xfrm>
            <a:off x="304920" y="1295280"/>
            <a:ext cx="2743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ally depends on what we want and what are the data sources we need to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simply start only with jUCMNav and initialize the values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only use a simple relational data source and generate our Dimensional Data sources from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RAAS we might be able to omit the monitor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8186CEA1-6BB9-4CA5-AA24-994BBA37A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Dem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ucmnav.softwareengineering.ca/twiki/bin/view/ProjetSEG/KPIDe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558C64F-EB69-4108-B339-81C13C067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 Black"/>
                <a:ea typeface="宋体"/>
              </a:rPr>
              <a:t>Future work – Process Redesign</a:t>
            </a:r>
            <a:endParaRPr b="0" lang="en-US" sz="26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2400" y="1066680"/>
          <a:ext cx="3125520" cy="4572000"/>
        </p:xfrm>
        <a:graphic>
          <a:graphicData uri="http://schemas.openxmlformats.org/drawingml/2006/table">
            <a:tbl>
              <a:tblPr/>
              <a:tblGrid>
                <a:gridCol w="1093680"/>
                <a:gridCol w="430200"/>
                <a:gridCol w="401760"/>
                <a:gridCol w="539640"/>
                <a:gridCol w="660240"/>
              </a:tblGrid>
              <a:tr h="2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esig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</a:tr>
              <a:tr h="22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Elim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Com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outing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equen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nock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rol Re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rallelis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i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ocatio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Manag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ustomer Te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l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entr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 Responsibil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1066680"/>
          <a:ext cx="3075120" cy="4695840"/>
        </p:xfrm>
        <a:graphic>
          <a:graphicData uri="http://schemas.openxmlformats.org/drawingml/2006/table">
            <a:tbl>
              <a:tblPr/>
              <a:tblGrid>
                <a:gridCol w="1093680"/>
                <a:gridCol w="419040"/>
                <a:gridCol w="362160"/>
                <a:gridCol w="539640"/>
                <a:gridCol w="660600"/>
              </a:tblGrid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volv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ra Re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ecialist-Gener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eneralist-Speci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ernal Party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sour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fa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act Red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uffer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usted Par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l Business Process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Typ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ce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-based Wo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112"/>
          <p:cNvSpPr/>
          <p:nvPr/>
        </p:nvSpPr>
        <p:spPr>
          <a:xfrm>
            <a:off x="0" y="6643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ence: H. A. Reijers, Process-Aware Information Systems. John Wiley &amp; Sons. Inc.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1A16504-3977-4DC2-AC89-333BD223E1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6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cenario-based process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3657600" y="1066680"/>
          <a:ext cx="41148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066680"/>
                    <a:ext cx="4114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4"/>
          <p:cNvSpPr/>
          <p:nvPr/>
        </p:nvSpPr>
        <p:spPr>
          <a:xfrm>
            <a:off x="380880" y="1295280"/>
            <a:ext cx="26924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only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cenario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cess w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ghlighted part of the process on the related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business go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41A37E2-2329-4F73-A7A5-DFB6B83213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BPM Life Cycl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518" t="2850" r="5476" b="2507"/>
          <a:stretch/>
        </p:blipFill>
        <p:spPr>
          <a:xfrm>
            <a:off x="2459160" y="1371600"/>
            <a:ext cx="394164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BC15929-E805-461D-A9D6-E4631961F7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06" name="Picture 4" descr="Drill.png"/>
          <p:cNvPicPr/>
          <p:nvPr/>
        </p:nvPicPr>
        <p:blipFill>
          <a:blip r:embed="rId1"/>
          <a:stretch/>
        </p:blipFill>
        <p:spPr>
          <a:xfrm>
            <a:off x="2895480" y="838080"/>
            <a:ext cx="5037120" cy="422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3276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Import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the average satisfaction level of the top-level business goals when a process performs at its 100%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760" y="1828800"/>
            <a:ext cx="27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Perform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computed from the performa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own Arrow 11"/>
          <p:cNvSpPr/>
          <p:nvPr/>
        </p:nvSpPr>
        <p:spPr>
          <a:xfrm>
            <a:off x="8712360" y="1295280"/>
            <a:ext cx="279360" cy="3048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2"/>
          <p:cNvSpPr/>
          <p:nvPr/>
        </p:nvSpPr>
        <p:spPr>
          <a:xfrm rot="5400000">
            <a:off x="6756120" y="2327400"/>
            <a:ext cx="29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down to find the roo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CFB1FB7-320E-41F1-B98B-8CF4AB246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278680" cy="486396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5376960" y="2097000"/>
            <a:ext cx="2908080" cy="309744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8F95212-77BF-4230-B882-3B191EF1B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able 7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601120" cy="52610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4F641AA-E734-4EE6-A24E-BE8244436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pproval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76320" y="914400"/>
          <a:ext cx="29779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29779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324480" y="533520"/>
          <a:ext cx="2743200" cy="51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520"/>
                    <a:ext cx="274320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971800" y="619200"/>
          <a:ext cx="3392640" cy="50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19200"/>
                    <a:ext cx="33926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9"/>
          <p:cNvSpPr/>
          <p:nvPr/>
        </p:nvSpPr>
        <p:spPr>
          <a:xfrm>
            <a:off x="700560" y="5486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613320" y="54864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6679440" y="5497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047D8B5-E469-4142-84AE-07F1C2EEDD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Documents and Settings\damyot.damyotlap\My Documents\uo\papers\2008\MCeTech08\BPM\jUCMNav-KPI.png"/>
          <p:cNvPicPr/>
          <p:nvPr/>
        </p:nvPicPr>
        <p:blipFill>
          <a:blip r:embed="rId1"/>
          <a:stretch/>
        </p:blipFill>
        <p:spPr>
          <a:xfrm>
            <a:off x="0" y="0"/>
            <a:ext cx="9136080" cy="6502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843360" y="547524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33680" y="546408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3440" y="2416320"/>
            <a:ext cx="1611360" cy="522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781680" y="612936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651720" y="505152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s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2280" y="4811760"/>
            <a:ext cx="112104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43" name="Picture 4" descr="Approval Process Thesis v9-GRLGraph13345-PM 2.3.png"/>
          <p:cNvPicPr/>
          <p:nvPr/>
        </p:nvPicPr>
        <p:blipFill>
          <a:blip r:embed="rId1"/>
          <a:srcRect l="1284" t="3031" r="48423" b="44339"/>
          <a:stretch/>
        </p:blipFill>
        <p:spPr>
          <a:xfrm>
            <a:off x="5029200" y="2743200"/>
            <a:ext cx="3922560" cy="30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pproval Process Thesis v9-Map478-ReviewRequestTechnically.png"/>
          <p:cNvPicPr/>
          <p:nvPr/>
        </p:nvPicPr>
        <p:blipFill>
          <a:blip r:embed="rId2"/>
          <a:srcRect l="853" t="1894" r="37775" b="61826"/>
          <a:stretch/>
        </p:blipFill>
        <p:spPr>
          <a:xfrm>
            <a:off x="228600" y="99072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6287F21-365E-4A10-9A9F-9E6441CEE9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A7A6649-803A-4CCC-877E-7DE774955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able 5" descr=""/>
          <p:cNvPicPr/>
          <p:nvPr/>
        </p:nvPicPr>
        <p:blipFill>
          <a:blip r:embed="rId1"/>
          <a:stretch/>
        </p:blipFill>
        <p:spPr>
          <a:xfrm>
            <a:off x="1378080" y="3730680"/>
            <a:ext cx="6010200" cy="1828800"/>
          </a:xfrm>
          <a:prstGeom prst="rect">
            <a:avLst/>
          </a:prstGeom>
          <a:ln w="0">
            <a:noFill/>
          </a:ln>
        </p:spPr>
      </p:pic>
      <p:pic>
        <p:nvPicPr>
          <p:cNvPr id="248" name="Table 6" descr=""/>
          <p:cNvPicPr/>
          <p:nvPr/>
        </p:nvPicPr>
        <p:blipFill>
          <a:blip r:embed="rId2"/>
          <a:stretch/>
        </p:blipFill>
        <p:spPr>
          <a:xfrm>
            <a:off x="1378080" y="1219320"/>
            <a:ext cx="60102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Down Arrow 7"/>
          <p:cNvSpPr/>
          <p:nvPr/>
        </p:nvSpPr>
        <p:spPr>
          <a:xfrm>
            <a:off x="4300560" y="3019320"/>
            <a:ext cx="380880" cy="768600"/>
          </a:xfrm>
          <a:prstGeom prst="down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KPI values in two steps of the scenari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463760" y="556272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* (10 DW Performance related compla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 - Revised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53" name="Picture 3" descr="paper-based process-OH-Thesis-DOORS - linux v8_changed importance-GRLGraph13345-PM 2.3 copy.jpg"/>
          <p:cNvPicPr/>
          <p:nvPr/>
        </p:nvPicPr>
        <p:blipFill>
          <a:blip r:embed="rId1"/>
          <a:srcRect l="0" t="2029" r="2446" b="6864"/>
          <a:stretch/>
        </p:blipFill>
        <p:spPr>
          <a:xfrm>
            <a:off x="1663560" y="3156120"/>
            <a:ext cx="496584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aper-based process-OH-Thesis-DOORS - linux v8_changed importance-Map478-ReviewRequestTechnically.png"/>
          <p:cNvPicPr/>
          <p:nvPr/>
        </p:nvPicPr>
        <p:blipFill>
          <a:blip r:embed="rId2"/>
          <a:srcRect l="1069" t="1517" r="13636" b="58870"/>
          <a:stretch/>
        </p:blipFill>
        <p:spPr>
          <a:xfrm>
            <a:off x="1600200" y="685800"/>
            <a:ext cx="5114880" cy="2467080"/>
          </a:xfrm>
          <a:prstGeom prst="rect">
            <a:avLst/>
          </a:prstGeom>
          <a:ln w="0">
            <a:noFill/>
          </a:ln>
        </p:spPr>
      </p:pic>
      <p:sp>
        <p:nvSpPr>
          <p:cNvPr id="255" name="Down Arrow 6"/>
          <p:cNvSpPr/>
          <p:nvPr/>
        </p:nvSpPr>
        <p:spPr>
          <a:xfrm rot="7200000">
            <a:off x="6019560" y="289512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own Arrow 7"/>
          <p:cNvSpPr/>
          <p:nvPr/>
        </p:nvSpPr>
        <p:spPr>
          <a:xfrm rot="5400000">
            <a:off x="6324120" y="3962520"/>
            <a:ext cx="381240" cy="5331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wn Arrow 8"/>
          <p:cNvSpPr/>
          <p:nvPr/>
        </p:nvSpPr>
        <p:spPr>
          <a:xfrm rot="5400000">
            <a:off x="6705360" y="4876560"/>
            <a:ext cx="381240" cy="5335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own Arrow 9"/>
          <p:cNvSpPr/>
          <p:nvPr/>
        </p:nvSpPr>
        <p:spPr>
          <a:xfrm rot="5400000">
            <a:off x="6477120" y="56386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6200000">
            <a:off x="-2730240" y="28573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Case study</a:t>
            </a:r>
            <a:br>
              <a:rPr sz="2500"/>
            </a:b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Revised Goal Model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0" descr="paper-based process-OH-Thesis-DOORS - linux v8_changed importance-GRLGraph12901-BG model 1.png"/>
          <p:cNvPicPr/>
          <p:nvPr/>
        </p:nvPicPr>
        <p:blipFill>
          <a:blip r:embed="rId1"/>
          <a:srcRect l="3571" t="2918" r="12887" b="2581"/>
          <a:stretch/>
        </p:blipFill>
        <p:spPr>
          <a:xfrm>
            <a:off x="2222640" y="289080"/>
            <a:ext cx="4521240" cy="6305400"/>
          </a:xfrm>
          <a:prstGeom prst="rect">
            <a:avLst/>
          </a:prstGeom>
          <a:ln w="0">
            <a:noFill/>
          </a:ln>
        </p:spPr>
      </p:pic>
      <p:sp>
        <p:nvSpPr>
          <p:cNvPr id="267" name="Down Arrow 11"/>
          <p:cNvSpPr/>
          <p:nvPr/>
        </p:nvSpPr>
        <p:spPr>
          <a:xfrm rot="16200000">
            <a:off x="2362320" y="1371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own Arrow 12"/>
          <p:cNvSpPr/>
          <p:nvPr/>
        </p:nvSpPr>
        <p:spPr>
          <a:xfrm rot="16200000">
            <a:off x="2438280" y="320040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model 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304920" y="1003320"/>
          <a:ext cx="336852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3320"/>
                    <a:ext cx="336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5006880" y="990720"/>
          <a:ext cx="334188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990720"/>
                    <a:ext cx="334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ight Arrow 7"/>
          <p:cNvSpPr/>
          <p:nvPr/>
        </p:nvSpPr>
        <p:spPr>
          <a:xfrm>
            <a:off x="3902040" y="2273400"/>
            <a:ext cx="86364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7013520" y="2336760"/>
            <a:ext cx="1143000" cy="851040"/>
          </a:xfrm>
          <a:prstGeom prst="ellipse">
            <a:avLst/>
          </a:prstGeom>
          <a:noFill/>
          <a:ln w="3492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76560" y="4343400"/>
          <a:ext cx="4290840" cy="1494000"/>
        </p:xfrm>
        <a:graphic>
          <a:graphicData uri="http://schemas.openxmlformats.org/drawingml/2006/table">
            <a:tbl>
              <a:tblPr/>
              <a:tblGrid>
                <a:gridCol w="1087200"/>
                <a:gridCol w="790560"/>
                <a:gridCol w="750960"/>
                <a:gridCol w="750960"/>
                <a:gridCol w="911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O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B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roval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7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10"/>
          <p:cNvSpPr/>
          <p:nvPr/>
        </p:nvSpPr>
        <p:spPr>
          <a:xfrm>
            <a:off x="1656720" y="744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6355080" y="685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181160" y="4791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177920" y="5438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1466197-4DB8-4978-B96D-1AFC83C660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5905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ramework Component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2438280" y="304920"/>
          <a:ext cx="419112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1911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D7BF176-2670-4E26-8FB7-A2F952688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uture Work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85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2480"/>
            <a:ext cx="7620120" cy="4649760"/>
          </a:xfrm>
          <a:prstGeom prst="rect">
            <a:avLst/>
          </a:prstGeom>
          <a:ln w="0">
            <a:noFill/>
          </a:ln>
        </p:spPr>
      </p:pic>
      <p:sp>
        <p:nvSpPr>
          <p:cNvPr id="28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0F632EC-95D5-4466-AB6E-4E6F78023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anagement Core Model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33520" y="1143000"/>
          <a:ext cx="76197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197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B86088E-EAD3-4EBF-903D-6588B96939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odel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762120" y="838080"/>
          <a:ext cx="75420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20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F4C9497-A854-4A3A-B883-8860D4B31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542880" y="1212840"/>
            <a:ext cx="76262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E19760A-7118-4F4A-ADBE-F132B740C3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How to tackle the problem?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523880" y="990720"/>
          <a:ext cx="57913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791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D0191D7-6D65-42CF-AE4C-F1CDE916F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421160" y="1771560"/>
            <a:ext cx="467856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4520" y="1290600"/>
            <a:ext cx="4376880" cy="45766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7"/>
          <p:cNvSpPr/>
          <p:nvPr/>
        </p:nvSpPr>
        <p:spPr>
          <a:xfrm>
            <a:off x="3459240" y="2252520"/>
            <a:ext cx="2011320" cy="338400"/>
          </a:xfrm>
          <a:prstGeom prst="pie">
            <a:avLst/>
          </a:prstGeom>
          <a:noFill/>
          <a:ln w="255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83720" y="8049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62040" y="90504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Business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40EDD69-6E8B-4140-84C6-8799E2F1B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990720"/>
            <a:ext cx="455940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5630760" y="685800"/>
            <a:ext cx="3440160" cy="348300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3962520" y="3036600"/>
            <a:ext cx="1663560" cy="17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24280" y="4226040"/>
            <a:ext cx="4267440" cy="1565280"/>
          </a:xfrm>
          <a:prstGeom prst="rect">
            <a:avLst/>
          </a:prstGeom>
          <a:ln w="0">
            <a:noFill/>
          </a:ln>
        </p:spPr>
      </p:pic>
      <p:sp>
        <p:nvSpPr>
          <p:cNvPr id="125" name="Line 10"/>
          <p:cNvSpPr/>
          <p:nvPr/>
        </p:nvSpPr>
        <p:spPr>
          <a:xfrm flipH="1">
            <a:off x="6248520" y="3473280"/>
            <a:ext cx="591840" cy="752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80175C4-0E26-41D6-BB7C-A7A5101DF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59:41Z</dcterms:created>
  <dc:creator>Alireza Pourshahid</dc:creator>
  <dc:description/>
  <dc:language>en-US</dc:language>
  <cp:lastModifiedBy>Daniel Amyot</cp:lastModifiedBy>
  <dcterms:modified xsi:type="dcterms:W3CDTF">2008-11-06T16:47:07Z</dcterms:modified>
  <cp:revision>149</cp:revision>
  <dc:subject/>
  <dc:title>Business Process Modelling, Analysis and Monitoring with URN, jUCMNav and Cognos 8a</dc:title>
</cp:coreProperties>
</file>